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144-F6BD-45D8-91E5-F4587A8F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C1E-DF77-438D-89B8-1A36C92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92D-B6C0-4873-BDAE-07EEBEC3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4F4-61C2-4D43-B697-83A19538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A14-5447-44EA-B018-972E510E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571-D637-4F66-9712-DAFC6CB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3DA-1F36-4B1C-97D1-FB7D2EA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AF5-2AB8-46DA-8DEB-A194DAC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081-C70F-4894-BCE9-01552B2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B43-431A-4985-805F-2B6B01D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22F-5634-445C-A12E-4D03252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F51-B79E-46AE-8850-3CA975F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A2D-96CF-4D7F-B5A5-B814F41E81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840280" y="1878120"/>
            <a:ext cx="2713320" cy="9079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8240" y="5516640"/>
            <a:ext cx="44197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69800" y="1889280"/>
            <a:ext cx="520560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38120" y="2444760"/>
            <a:ext cx="49989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80960" y="3389400"/>
            <a:ext cx="4859280" cy="622080"/>
          </a:xfrm>
          <a:prstGeom prst="rect">
            <a:avLst/>
          </a:prstGeom>
          <a:ln w="0">
            <a:noFill/>
          </a:ln>
        </p:spPr>
      </p:pic>
      <p:sp>
        <p:nvSpPr>
          <p:cNvPr id="50" name="Isosceles Triangle 1"/>
          <p:cNvSpPr/>
          <p:nvPr/>
        </p:nvSpPr>
        <p:spPr>
          <a:xfrm>
            <a:off x="5759280" y="3251160"/>
            <a:ext cx="2924280" cy="863640"/>
          </a:xfrm>
          <a:prstGeom prst="triangle">
            <a:avLst>
              <a:gd name="adj" fmla="val 0"/>
            </a:avLst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7412040" y="3706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7070760" y="3193920"/>
            <a:ext cx="592200" cy="470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5237280" y="344952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6748560" y="4127400"/>
            <a:ext cx="59040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5759280" y="3933720"/>
            <a:ext cx="158760" cy="17640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5"/>
          <p:cNvSpPr/>
          <p:nvPr/>
        </p:nvSpPr>
        <p:spPr>
          <a:xfrm rot="12320400">
            <a:off x="7481880" y="3816000"/>
            <a:ext cx="334800" cy="349200"/>
          </a:xfrm>
          <a:custGeom>
            <a:avLst/>
            <a:gdLst/>
            <a:ahLst/>
            <a:rect l="l" t="t" r="r" b="b"/>
            <a:pathLst>
              <a:path stroke="0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  <a:lnTo>
                  <a:pt x="167484" y="174905"/>
                </a:lnTo>
                <a:lnTo>
                  <a:pt x="232337" y="13645"/>
                </a:lnTo>
                <a:close/>
              </a:path>
              <a:path fill="none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</a:path>
            </a:pathLst>
          </a:custGeom>
          <a:noFill/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2"/>
          <a:stretch/>
        </p:blipFill>
        <p:spPr>
          <a:xfrm>
            <a:off x="487440" y="4340160"/>
            <a:ext cx="524808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3"/>
          <a:stretch/>
        </p:blipFill>
        <p:spPr>
          <a:xfrm>
            <a:off x="480960" y="4956120"/>
            <a:ext cx="5224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1:10:55Z</dcterms:modified>
  <cp:revision>12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